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31B4-C18C-4BBF-8599-18926AB18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D992-27A2-40EF-B8B1-783EEA1DE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FF81-7677-4D1A-9B3B-02999DE72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E76F-66C1-457C-8D5F-84242700F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82BC-4EF4-4067-A183-F8857B50B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049D-64E8-4582-BDFD-9C5C2D1AA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A419-F5B5-44E0-B321-644028974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64E8-C80D-4D81-8EDE-6557BC3DF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9117-58B9-4CC0-B1FE-2285106D1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8DA5-B8E8-4D19-BFAD-1A44A9D5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72FB-6C6B-4E25-BD67-B38DD308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DEB0-2FFF-4A3E-835B-3945FEFB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763C9-1CF1-4CE3-A5DB-42475D96A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9520" y="457200"/>
            <a:ext cx="62690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ustomary measur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85560" y="4332240"/>
            <a:ext cx="7549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finition of Capacit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much “stuff” can fit into containers 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amount of space there is to fill them 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400800" y="1752480"/>
            <a:ext cx="1371600" cy="1352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629400" y="380988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838080" y="1523880"/>
            <a:ext cx="155268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666880" y="609480"/>
            <a:ext cx="3124440" cy="3657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88320" y="4572000"/>
            <a:ext cx="7244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8.)  What unit of capac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o we use to buy mil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86800" y="244440"/>
            <a:ext cx="8376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.)  What unit would you use if you wa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measure the amount of wa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this fish ta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80769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441972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019920" y="304920"/>
            <a:ext cx="2603520" cy="2425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62240" y="1371600"/>
            <a:ext cx="4947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.)  What are the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ainer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asuring 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56360" y="5904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7264440" cy="47242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600" y="304920"/>
            <a:ext cx="896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1.)  How would we measure the amou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f water this truck is carry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248160" cy="5410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39680" y="195120"/>
            <a:ext cx="779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2.)  How are we going to measu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is size of ice crea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81080" y="2133720"/>
            <a:ext cx="5105520" cy="4572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70800" y="222120"/>
            <a:ext cx="8268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onus:  Can you name the unit o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asurement hospital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 to hold bloo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219320" y="1371600"/>
            <a:ext cx="6238800" cy="5162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148400" y="152280"/>
            <a:ext cx="6415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ere’s a different vers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f the Gallon Gu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4419360" cy="38862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37840" y="0"/>
            <a:ext cx="7970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nowing how to measure is a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ortant skill.  In some ways 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s kind of a balancing ac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883040" y="3048120"/>
            <a:ext cx="426096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gratulation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ou have now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nished the quiz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eep your pa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n your clipboard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5943600" cy="5257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63120" y="396720"/>
            <a:ext cx="803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Gigantic “G”  It can hold everyth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1360" y="685800"/>
            <a:ext cx="888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)  What unit of capacity best fit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858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14600" y="1828800"/>
            <a:ext cx="4114800" cy="4724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97560" y="380880"/>
            <a:ext cx="68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)  What unit would this oil b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asured i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365760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438280" y="2133720"/>
            <a:ext cx="6477120" cy="4572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2560" y="533520"/>
            <a:ext cx="876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)  What unit do we use to measure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mount of gas we put into ca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477120" cy="5334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94480" y="423720"/>
            <a:ext cx="85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)  What is this Gigantic “G” miss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7543800" cy="4572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222920" y="152280"/>
            <a:ext cx="667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.)  Does anybody know wha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asurement we use t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ll strawberries i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" y="3886200"/>
            <a:ext cx="2847960" cy="24955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886200" y="3429000"/>
            <a:ext cx="4648320" cy="3124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40360" y="685800"/>
            <a:ext cx="8140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.)  How about what we mea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yogurt and everybody’s favor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ce cream (the smaller ice crea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ize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610160" cy="5092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01160" y="228600"/>
            <a:ext cx="90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.)  What about these large paint ja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size jar to you think the paint is i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2T00:24:59Z</dcterms:created>
  <dc:creator>Rutherford County Schools</dc:creator>
  <dc:description/>
  <dc:language>en-US</dc:language>
  <cp:lastModifiedBy>Rutherford County Schools</cp:lastModifiedBy>
  <dcterms:modified xsi:type="dcterms:W3CDTF">2007-03-07T19:48:19Z</dcterms:modified>
  <cp:revision>6</cp:revision>
  <dc:subject/>
  <dc:title>Slide 1</dc:title>
</cp:coreProperties>
</file>